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C6D9A-4145-4F8B-8C73-E81F6D7B8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1B22D-4FA6-40F1-ADA4-345791947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A2893-CC5D-4226-8030-FC7AF4A9E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3CC91-90C4-4ED9-9A20-02F3B5A5DA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2D842-8D74-4E9B-8CF0-CD359F8F3B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CA9DE-F069-43AD-9318-34FB6A0932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DDE08-EFA9-470A-A998-17884FC47F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C18F5-78C5-40F4-B83E-C6DC39E41A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937F3-E322-4982-AEC1-3246734C06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15778-96E5-4184-8ED1-2DD34E42B4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3BF21-C28C-4583-9083-616C269F8B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4F884-5918-48C2-B160-4405D6A39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0465A-DA97-4303-AF15-CFFB119DB0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8B7DF-B215-439F-A6EA-1F6D44CB6F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49FAA-69A5-48D7-BCFF-1A3912873E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3CAA8-9BE8-4C21-9A29-4FDDDFEA15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E5899-925C-453B-AC83-DCDA2EEEF6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ED26C-7F32-4917-9235-53B0D0077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FC0BA-D07E-40AE-9DD0-6DB9E801D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D75FD-3A1F-49E1-B8FC-B1DB9C04D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7B9AC-C1CB-462F-87E7-91073941E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1A0EE-AFD6-4042-B8C6-5E0CD1C15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8883A-3B7C-4253-96E8-185E37161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549E-6321-4D95-85F6-24050FEA1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7B34E1F-1BF4-471F-A797-B6AB04D0A46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13C9FE5-4F76-46E0-8CE8-85077F85B2B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FD62F03-D8ED-4389-836C-D136ADAF479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EC8D5A1-0F3C-4DAE-9653-A7529F73045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3-10-08T13:27:17Z</dcterms:modified>
  <cp:revision>348</cp:revision>
  <dc:subject/>
  <dc:title>Exploratory Data Analysis</dc:title>
</cp:coreProperties>
</file>